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98880" y="-360"/>
            <a:ext cx="300024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6240" y="690120"/>
            <a:ext cx="47052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2320" y="4449600"/>
            <a:ext cx="5154480" cy="41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8822880"/>
            <a:ext cx="30765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98880" y="8822880"/>
            <a:ext cx="300024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8DEB45-0A25-4222-863A-7C4181DD5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6240" y="690480"/>
            <a:ext cx="4705200" cy="35290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22320" y="4449600"/>
            <a:ext cx="5154480" cy="41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is to match slides for rest of kit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87040" y="6572160"/>
            <a:ext cx="27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VIDIA Proprietary and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3480" y="48232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7040" y="6572160"/>
            <a:ext cx="27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VIDIA Proprietary and Confid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khurley@nvidia.com" TargetMode="External"/><Relationship Id="rId2" Type="http://schemas.openxmlformats.org/officeDocument/2006/relationships/hyperlink" Target="mailto:khurley@nvidia.com" TargetMode="External"/><Relationship Id="rId3" Type="http://schemas.openxmlformats.org/officeDocument/2006/relationships/hyperlink" Target="mailto:khurley@nvidia.com" TargetMode="External"/><Relationship Id="rId4" Type="http://schemas.openxmlformats.org/officeDocument/2006/relationships/hyperlink" Target="mailto:khurley@nvidia.com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3480" y="48232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nv20 Developer Workshop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19280" y="5521320"/>
            <a:ext cx="6400800" cy="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xel Shading Lab: Minnaert Sh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ember 30, 20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Pixel Shader Ste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37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0 (Norma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normalize on a pixel by pixel basis using cubemap to lookup vec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 t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1 Coordinate contains -Light V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2 Coordinate contains -Eye V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1, T2 aren’t normalized on pixel by pixel basis.  It would be nice, but it isn’t possi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Pixel Shader Steps (Cont)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exm3x2p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m3x2p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1, t0_bx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s a dot product between T0 and T1, effectively performs first row of matrix multiply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 are stored in a non-accessible temporary register (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m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m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 OpenG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as first coordinate (U) (S, for OpenGL) for texture lookup for next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does not read (sample) a texture.  It just uses the texture coordinates T1 and what’s in register T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erforms the func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m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T1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st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• ([(T0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gb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-.05] * 2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Pixel Shader Steps (Cont)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44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exm3x2t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m3x2te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2, t0_bx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s a dot product between T0 and T2, effectively performs second row of matrix multiply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 are stored in a non-accessible temporary register 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m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(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m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 OpenG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as second coordinate (V) (T, for OpenGL) for texture look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nstruction then reads (samples) a texture based on (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mp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m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looks up the precomputed power functions of (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) and (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Pixel Shader Steps (Cont)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7696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value can now be used to modulate the diffuse col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uses Phong shading and this value is modulated by the Minnaert darkening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p3_sat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1, c[CVP_LIGHT_DIRECTION]_bx2, t3_bx2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spcAft>
                <a:spcPts val="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ample pixel Cod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 Pixel shader - BRD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 is actually minneart refle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include "constants.h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 Declare pixel shader version 1.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s.1.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 t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m3x2pad t1,t0_bx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/ dot normal with light vector (S coordinat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m3x2tex t2,t0_bx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/ dot normal with eye vector (T coordinat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 t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/ grab normal agai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ample pixel Code (Cont.)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p3_sa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1, c[CVP_LIGHT_DIRECTION]_bx2, t3_bx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&lt;Now, you finish the rest of the code&gt;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8954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p3_sat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1, c[CVP_LIGHT_DIRECTION]_bx2, t3_bx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ul r0, r1, t2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/ multiply in darkening lim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ul r0, r0, v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/ multiply by diffuse (should be minnaert) 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Pixel Shading Lab: Minnaert Shad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nneth Hurley (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  <a:hlinkClick r:id="rId1"/>
              </a:rPr>
              <a:t>khurley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@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  <a:hlinkClick r:id="rId3"/>
              </a:rPr>
              <a:t>nvidia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  <a:hlinkClick r:id="rId4"/>
              </a:rPr>
              <a:t>.c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Minnaert2" descr=""/>
          <p:cNvPicPr/>
          <p:nvPr/>
        </p:nvPicPr>
        <p:blipFill>
          <a:blip r:embed="rId5"/>
          <a:stretch/>
        </p:blipFill>
        <p:spPr>
          <a:xfrm>
            <a:off x="838080" y="2362320"/>
            <a:ext cx="3581640" cy="3555720"/>
          </a:xfrm>
          <a:prstGeom prst="rect">
            <a:avLst/>
          </a:prstGeom>
          <a:ln w="0">
            <a:noFill/>
          </a:ln>
        </p:spPr>
      </p:pic>
      <p:pic>
        <p:nvPicPr>
          <p:cNvPr id="92" name="Minnaert3" descr=""/>
          <p:cNvPicPr/>
          <p:nvPr/>
        </p:nvPicPr>
        <p:blipFill>
          <a:blip r:embed="rId6"/>
          <a:stretch/>
        </p:blipFill>
        <p:spPr>
          <a:xfrm>
            <a:off x="4648320" y="2362320"/>
            <a:ext cx="3657600" cy="3558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14400" y="6095880"/>
            <a:ext cx="685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innaert Shading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ouraud Sha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3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naert Shading –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naert, M., 1941. The reciprocity principle in lunar photometry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strophysical Jou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Volume 93, pp. 403-410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le shading technique for Anistropic lighting eff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kening limbs (edges, WRT eye/ligh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ion of BRDF (Bidirectional Refelectance Distribution Function) calcul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verview (Cont.)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18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 that is used to look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lor </a:t>
            </a:r>
            <a:r>
              <a:rPr b="1" lang="en-US" sz="2800" spc="-1" strike="noStrike" baseline="-10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cos(</a:t>
            </a:r>
            <a:r>
              <a:rPr b="1" lang="en-US" sz="2200" spc="-1" strike="noStrike">
                <a:solidFill>
                  <a:srgbClr val="000000"/>
                </a:solidFill>
                <a:latin typeface="MT Symbol"/>
                <a:ea typeface="MT Symbol"/>
              </a:rPr>
              <a:t>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 </a:t>
            </a:r>
            <a:r>
              <a:rPr b="1" lang="en-US" sz="2800" spc="-1" strike="noStrike" baseline="-1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cos(</a:t>
            </a:r>
            <a:r>
              <a:rPr b="1" lang="en-US" sz="2200" spc="-1" strike="noStrike">
                <a:solidFill>
                  <a:srgbClr val="000000"/>
                </a:solidFill>
                <a:latin typeface="MT Symbol"/>
                <a:ea typeface="MT Symbol"/>
              </a:rPr>
              <a:t>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-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MT 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T Symbol"/>
                <a:ea typeface="MT Symbol"/>
              </a:rPr>
              <a:t>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Angle between Light and Norm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MT 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T Symbol"/>
                <a:ea typeface="MT Symbol"/>
              </a:rPr>
              <a:t>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Angle between Eye and Norm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276720" y="3886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1447920" y="47242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276720" y="3809880"/>
            <a:ext cx="25905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4419720"/>
            <a:ext cx="685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3505320"/>
            <a:ext cx="533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3657600"/>
            <a:ext cx="99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4495680"/>
            <a:ext cx="914400" cy="457200"/>
          </a:xfrm>
          <a:custGeom>
            <a:avLst/>
            <a:gdLst/>
            <a:ahLst/>
            <a:rect l="l" t="t" r="r" b="b"/>
            <a:pathLst>
              <a:path w="384" h="160">
                <a:moveTo>
                  <a:pt x="0" y="160"/>
                </a:moveTo>
                <a:cubicBezTo>
                  <a:pt x="40" y="96"/>
                  <a:pt x="80" y="32"/>
                  <a:pt x="144" y="16"/>
                </a:cubicBezTo>
                <a:cubicBezTo>
                  <a:pt x="208" y="0"/>
                  <a:pt x="296" y="32"/>
                  <a:pt x="38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67080"/>
            <a:ext cx="914400" cy="381240"/>
          </a:xfrm>
          <a:custGeom>
            <a:avLst/>
            <a:gdLst/>
            <a:ahLst/>
            <a:rect l="l" t="t" r="r" b="b"/>
            <a:pathLst>
              <a:path w="432" h="160">
                <a:moveTo>
                  <a:pt x="0" y="64"/>
                </a:moveTo>
                <a:cubicBezTo>
                  <a:pt x="84" y="32"/>
                  <a:pt x="168" y="0"/>
                  <a:pt x="240" y="16"/>
                </a:cubicBezTo>
                <a:cubicBezTo>
                  <a:pt x="312" y="32"/>
                  <a:pt x="352" y="128"/>
                  <a:pt x="432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3733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N) = </a:t>
            </a:r>
            <a:r>
              <a:rPr b="0" lang="en-US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733920" y="403812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514240" y="43430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3962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N) = </a:t>
            </a:r>
            <a:r>
              <a:rPr b="1" lang="en-US" sz="1400" spc="-1" strike="noStrike">
                <a:solidFill>
                  <a:srgbClr val="000000"/>
                </a:solidFill>
                <a:latin typeface="MT Symbol"/>
                <a:ea typeface="MT Symbol"/>
              </a:rPr>
              <a:t>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verview (Cont.)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5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inciple is that you use the Light (L) vector dotted with Normal (N), per pixel, take the cosine and raise it to a power.  This is multiplied with the Eye (E) dotted with the Normal (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es this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es a self shadowing effect on a per pixel basis, taking the Light vector and Eye position into account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value is used to modulate the pixel color for shadowing effec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spcAft>
                <a:spcPts val="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PU Ste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34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et up 2 textures for the operation on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ure at stage 0 is Normalization Cubem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ure at stage 2 is the precomputed Minnaert tex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omputed Texture is (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N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 X Coordinate (S for OpenGL), (E • N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-k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Y Coordinate (T for OpenGL) multiplied togeth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up Light Direction Vector and Eye position in Constant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Vertex Shader Ste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ex Shader simply passes Normal and Light Direction in Texture Coordinates 0,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ye Vector is calculate from Eye Position and Vertex Position, then renormalized and placed in Texture Coordinate 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 get vertex position to eye position (-eye vecto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0, c[CV_EYE_POSITION], srcPosi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 normalize the new vec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p3 r0.w, r0, r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q r0.w, r0.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 destEyeTex, r0, r0.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 destEyeTex coordinate now has normalized vector vertex-&gt;ey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destEyeTex.w, c[CV_ONE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9720" y="30384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A couple of things to know about Pixel Shader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76960" cy="35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0-T3 come in as Texture coordinates –infinity to infinity.  As soon as you read (sample) a texture, they turn into RGB values and the texture coordinates are lost forev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ever, you can keep the texture coordinates by using the opcode “texcoord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a T(0-3) register in the Addressing Operations precludes it from being read in the non-addressing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9720" y="30384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A couple of things to know about Pixel Shaders (Cont.)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32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b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ases and Scales the source regis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RGB is in the Range of 0..255 this effectively treats 0 = -1, 0x80 = 0, and 255 = 1 and remaps these values to the actual –1 to 1 range before operation is carried ou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ful for converting RGB values into Vectors. (examples include Bump Maps, Renormalization Map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4T20:24:13Z</dcterms:created>
  <dc:creator>Nvidia Corporation</dc:creator>
  <dc:description/>
  <dc:language>en-US</dc:language>
  <cp:lastModifiedBy>Kenneth Hurley</cp:lastModifiedBy>
  <cp:lastPrinted>1999-12-03T03:25:53Z</cp:lastPrinted>
  <dcterms:modified xsi:type="dcterms:W3CDTF">2000-11-30T02:29:22Z</dcterms:modified>
  <cp:revision>251</cp:revision>
  <dc:subject/>
  <dc:title>NV20 Kitchen</dc:title>
</cp:coreProperties>
</file>